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750C-7EBF-4FCC-9A9E-E78F4DEC6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C28C-5AB9-4344-A7C8-8881518B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68A0-3211-4DA6-97DA-625890415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58A3-9E35-4B7D-A6B9-0A61E49CF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1598-4119-4565-96DD-A2524A0BB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9D41-BE85-4878-85E3-783FF92D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8657-08F2-4925-82EC-C516D504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9F09-3BE5-49AD-B009-09057C6B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705D-9E1F-40A0-9EF9-DED1885E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B4011-744F-459D-AC1C-A9F99E18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28E5-54C8-42DC-9141-F65F16BA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9A4F-E302-483A-9CBE-51213FB7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0C29-F553-4755-BD12-8E3ED361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506F9-14FD-4799-BC59-BCF89DCF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0158-E4CC-41F5-972B-A7E81421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7276-1522-4B49-A546-97F9660E0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0CE2-B7A9-454C-9821-8AD90ABBF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82A2-7E1E-4D92-BC59-4A2DE863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AC44-5122-4920-9407-DEBD438A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C13B-2D5B-42D8-BC85-9DD848E9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254D-2368-4FA5-94B0-99F4EAD5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9091-BCE7-4B88-BB01-A0C21CDF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4948-5EC4-4BA0-B908-49C05C89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04F9-8D2E-4E41-B626-52E77F78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1027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1028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Line 1029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Line 1030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Line 1031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Line 1032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Line 1033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Line 1034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Line 1035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Line 1036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Line 1037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Line 1038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Line 1039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Line 1040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Line 1041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Line 1042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Line 1043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Line 1044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Line 1045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Line 1046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Line 1047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Line 1048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Line 1049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Line 1050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Line 1051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Line 1052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Line 1053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Line 1054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Line 1055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Line 1056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Line 1057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Line 1058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Line 1059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Line 1060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Line 1061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Line 1062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Line 1063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Line 1064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Line 1065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Line 1066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Line 1067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Line 1068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Line 1069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Line 1070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Line 1071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Line 1072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Line 1073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Line 1074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Line 1075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Line 1076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Line 1077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Line 1078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Line 1079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Line 1080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Line 1081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Line 1082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Line 1083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Line 1084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Line 1085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Line 1086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Line 1087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Line 1088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Line 1089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Line 1090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Line 1091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Line 1092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Line 1093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Line 1094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Line 1095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Line 1096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Line 1097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Line 1098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Line 1099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Line 1100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Line 1101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Line 1102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Line 1103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Line 1104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Line 1105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Line 1106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Line 1107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Line 1108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Line 1109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Line 1110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Line 1111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Line 1112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Line 1113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Line 1114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Line 1115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Line 1116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Line 1117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Line 1118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Line 1119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Line 1120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Line 1121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Line 1122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Line 1123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Line 1124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Line 1125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1126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Rectangle 1127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Rectangle 1128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Rectangle 1129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Rectangle 1130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DE6F-13C7-4228-9E90-34640E5FBEFE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Rectangle 3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Group 4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Line 5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Line 6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Line 7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Line 8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Line 9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Line 10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Line 11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Line 12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Line 13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Line 14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Line 15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Line 16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Line 17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Line 18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Line 19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Line 20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Line 21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Line 22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Line 23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Line 24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Line 25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Line 26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Line 27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Line 28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Line 29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Line 30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Line 31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Line 32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Line 33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Line 34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Line 35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Line 36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Line 37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Line 38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Line 39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Line 40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Line 41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Line 42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Line 43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Line 44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Line 45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Line 46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Line 47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Line 48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Line 49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Line 50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Line 51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Line 52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Line 53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Line 54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Line 55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Line 56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Line 57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Line 58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Line 59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Line 60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Line 61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Line 62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Line 63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Line 64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Line 65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Line 66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Line 67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Line 68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Line 69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Line 70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Line 71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Line 72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Line 73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Line 74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Line 75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Line 76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Line 77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Line 78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Line 79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Line 80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Line 81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Line 82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Line 83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Line 84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Line 85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Line 86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Line 87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Line 88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Line 89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Line 90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Line 91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Line 92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Line 93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Line 94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Line 95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Line 96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Line 97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Line 98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Line 99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Line 100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Line 101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Line 102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Rectangle 108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Rectangle 109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856D-58AF-49F3-B85E-A87F1BFE0C4E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he Thorax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19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xial &amp; Appendicular Skelet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Mammary Gland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urface Anatom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8" descr="showimage"/>
          <p:cNvPicPr/>
          <p:nvPr/>
        </p:nvPicPr>
        <p:blipFill>
          <a:blip r:embed="rId1"/>
          <a:stretch/>
        </p:blipFill>
        <p:spPr>
          <a:xfrm>
            <a:off x="2666880" y="838080"/>
            <a:ext cx="5035680" cy="548172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6"/>
          <p:cNvSpPr/>
          <p:nvPr/>
        </p:nvSpPr>
        <p:spPr>
          <a:xfrm>
            <a:off x="1219320" y="1371600"/>
            <a:ext cx="2133360" cy="459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Acromion en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6781680" y="1371600"/>
            <a:ext cx="1752840" cy="459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ternal en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1371600" y="4419720"/>
            <a:ext cx="6477120" cy="21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352320" y="5181120"/>
            <a:ext cx="3124440" cy="1143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avic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ercostal Musc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8856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xternal Intercostal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O: Inferior border of rib above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ff"/>
                </a:solidFill>
                <a:latin typeface="Times New Roman"/>
              </a:rPr>
              <a:t>I: Superior border of rib below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Fibers run OBLIQUE (down and forward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id in Inspiration (lift ribcage, increase dimension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nternal Intercostal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O: Superior border of rib below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ff"/>
                </a:solidFill>
                <a:latin typeface="Times New Roman"/>
              </a:rPr>
              <a:t>I: Inferior border of rib abov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Fibers run at RIGHT ANGLES to external intercosta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id in forced expiration (depress ribcage, decrease dimension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nnermost Intercostals, Subcostals, Transversus thoraci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ttachments similar to Internal Intercostals, Attach rib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mall, variable, function unclea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3785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eurovascular Bundle of Intercost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562720" y="2057040"/>
            <a:ext cx="3581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9900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(vein, artery, nerv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Intercostal vei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Intercostal arter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ff"/>
                </a:solidFill>
                <a:latin typeface="Times New Roman"/>
              </a:rPr>
              <a:t>Intercostal nerv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it in Subcostal Groov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etween Internal Intercostal and Innermost intercostal laye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6" name="ClipArt Placeholder 7" descr="showimage"/>
          <p:cNvPicPr/>
          <p:nvPr/>
        </p:nvPicPr>
        <p:blipFill>
          <a:blip r:embed="rId1"/>
          <a:stretch/>
        </p:blipFill>
        <p:spPr>
          <a:xfrm>
            <a:off x="152280" y="2011320"/>
            <a:ext cx="520884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733920" y="609120"/>
            <a:ext cx="501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Vertebral Colum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352320" y="1904760"/>
            <a:ext cx="5791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Humans’ made of 26 bon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ervical 7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oracic 12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Lumbar 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acrum (5 fused sacral vertebra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occyx (4 fused coccygeal vertebra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xtends from skull to pelvi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upports body, muscle attachm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Vertebral Can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reated by vertebral foram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ontains + protects spinal cor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9" name="Picture 6" descr="Vertebral Column-N142"/>
          <p:cNvPicPr/>
          <p:nvPr/>
        </p:nvPicPr>
        <p:blipFill>
          <a:blip r:embed="rId1"/>
          <a:stretch/>
        </p:blipFill>
        <p:spPr>
          <a:xfrm>
            <a:off x="1523880" y="0"/>
            <a:ext cx="1671840" cy="68580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340" name="Oval 7"/>
          <p:cNvSpPr/>
          <p:nvPr/>
        </p:nvSpPr>
        <p:spPr>
          <a:xfrm>
            <a:off x="2286000" y="4572000"/>
            <a:ext cx="304920" cy="533520"/>
          </a:xfrm>
          <a:prstGeom prst="ellipse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Line 8"/>
          <p:cNvSpPr/>
          <p:nvPr/>
        </p:nvSpPr>
        <p:spPr>
          <a:xfrm flipH="1">
            <a:off x="1676160" y="4876920"/>
            <a:ext cx="60948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Text Box 9"/>
          <p:cNvSpPr/>
          <p:nvPr/>
        </p:nvSpPr>
        <p:spPr>
          <a:xfrm>
            <a:off x="0" y="4343400"/>
            <a:ext cx="19051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ntervertebral foram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ical” Vertebra Featur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7315200" y="59436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g 166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5" name="Picture 7" descr="showimage"/>
          <p:cNvPicPr/>
          <p:nvPr/>
        </p:nvPicPr>
        <p:blipFill>
          <a:blip r:embed="rId1"/>
          <a:stretch/>
        </p:blipFill>
        <p:spPr>
          <a:xfrm>
            <a:off x="380880" y="2438280"/>
            <a:ext cx="8534520" cy="38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352320" y="2282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ervical Vertebrae (7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504960" y="1142640"/>
            <a:ext cx="56386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**Transverse Foramen **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uperior Articular Facets face superoposteriorl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nferior Articular Facets face inferoanteriorl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llows wide range of mo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pinous process fairly short, bifid (except for C7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Vertebral Foramen is Triangular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ody is wider laterally than in A-P dire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8" name="Picture 6" descr="Cervical Vert"/>
          <p:cNvPicPr/>
          <p:nvPr/>
        </p:nvPicPr>
        <p:blipFill>
          <a:blip r:embed="rId1"/>
          <a:stretch/>
        </p:blipFill>
        <p:spPr>
          <a:xfrm>
            <a:off x="609480" y="457200"/>
            <a:ext cx="2697120" cy="62434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typical Cervical Vertebra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4711680" cy="51814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1 – Atl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No bod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No Spinous Proces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uperior Articular facets are kidney shap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C2 – Axi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Odontoid Process = De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Other features typic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1" name="Picture 6" descr="Atlas-Axis"/>
          <p:cNvPicPr/>
          <p:nvPr/>
        </p:nvPicPr>
        <p:blipFill>
          <a:blip r:embed="rId1"/>
          <a:stretch/>
        </p:blipFill>
        <p:spPr>
          <a:xfrm>
            <a:off x="4719600" y="2362320"/>
            <a:ext cx="4424400" cy="35812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352" name="Text Box 7"/>
          <p:cNvSpPr/>
          <p:nvPr/>
        </p:nvSpPr>
        <p:spPr>
          <a:xfrm>
            <a:off x="5029200" y="6324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g 167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895120" y="609120"/>
            <a:ext cx="585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oracic Vertebrae (12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200400" y="1980720"/>
            <a:ext cx="5943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**Transverse Costal Facets **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*S/I Costal facets on vertebral body*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pinous Processes long, point inferiorl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uperior Articular Facets face Dorsally/Posteriorl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nferior Articular Facets face Ventrally/Anteriorl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Vertebral Foramen is Circula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ody is Heart-shap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5" name="Picture 6" descr="Thoracic Vert"/>
          <p:cNvPicPr/>
          <p:nvPr/>
        </p:nvPicPr>
        <p:blipFill>
          <a:blip r:embed="rId1"/>
          <a:stretch/>
        </p:blipFill>
        <p:spPr>
          <a:xfrm>
            <a:off x="228600" y="762120"/>
            <a:ext cx="2587680" cy="56340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53337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umbar Vertebrae (5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55627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pinous process is short, rectangular, projects dorsall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uperior Articular Facets face Mediall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nferior Articular Facets face Laterall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Vertebral Foramen is Triangula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ody is large and Kidney-shap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8" name="Picture 5" descr="Lumbar Vert"/>
          <p:cNvPicPr/>
          <p:nvPr/>
        </p:nvPicPr>
        <p:blipFill>
          <a:blip r:embed="rId1"/>
          <a:stretch/>
        </p:blipFill>
        <p:spPr>
          <a:xfrm>
            <a:off x="5943600" y="304920"/>
            <a:ext cx="2446200" cy="62481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10" descr="showimage"/>
          <p:cNvPicPr/>
          <p:nvPr/>
        </p:nvPicPr>
        <p:blipFill>
          <a:blip r:embed="rId1"/>
          <a:stretch/>
        </p:blipFill>
        <p:spPr>
          <a:xfrm>
            <a:off x="380880" y="2057400"/>
            <a:ext cx="8458200" cy="454968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11"/>
          <p:cNvSpPr/>
          <p:nvPr/>
        </p:nvSpPr>
        <p:spPr>
          <a:xfrm>
            <a:off x="2438280" y="762120"/>
            <a:ext cx="3733920" cy="642600"/>
          </a:xfrm>
          <a:prstGeom prst="rect">
            <a:avLst/>
          </a:prstGeom>
          <a:noFill/>
          <a:ln w="936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acrum &amp; Coccyx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xial vs. Appendicular Skelet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62160" y="2209680"/>
            <a:ext cx="4957560" cy="42624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xial Skelet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kull = Cranium + Facial bon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Vertebra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ib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ternum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ppendicular Skelet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ones of upper/lower limb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Limb Girdl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4" name="Picture 6" descr="HumSkeleton"/>
          <p:cNvPicPr/>
          <p:nvPr/>
        </p:nvPicPr>
        <p:blipFill>
          <a:blip r:embed="rId1"/>
          <a:stretch/>
        </p:blipFill>
        <p:spPr>
          <a:xfrm>
            <a:off x="762120" y="1295280"/>
            <a:ext cx="2977920" cy="53341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295" name="Text Box 7"/>
          <p:cNvSpPr/>
          <p:nvPr/>
        </p:nvSpPr>
        <p:spPr>
          <a:xfrm>
            <a:off x="2514600" y="6095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g 146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ervertebral Disc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4280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nnulus Fibrosu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Outer collar of concentric ring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Outer rings = ligamen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nner rings = fibrocartilag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upportive/Structura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Nucleus Pulposu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nner disc, cushiony pa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emnants of notocor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hock Absorbe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63" name="Picture 5" descr="LumbarArticulated"/>
          <p:cNvPicPr/>
          <p:nvPr/>
        </p:nvPicPr>
        <p:blipFill>
          <a:blip r:embed="rId1"/>
          <a:stretch/>
        </p:blipFill>
        <p:spPr>
          <a:xfrm>
            <a:off x="6080040" y="2976480"/>
            <a:ext cx="3063960" cy="38815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Intervertebral Disc Anatomy"/>
          <p:cNvPicPr/>
          <p:nvPr/>
        </p:nvPicPr>
        <p:blipFill>
          <a:blip r:embed="rId2"/>
          <a:stretch/>
        </p:blipFill>
        <p:spPr>
          <a:xfrm>
            <a:off x="4419720" y="1523880"/>
            <a:ext cx="2163600" cy="21099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365" name="Line 7"/>
          <p:cNvSpPr/>
          <p:nvPr/>
        </p:nvSpPr>
        <p:spPr>
          <a:xfrm flipV="1">
            <a:off x="3048120" y="3048120"/>
            <a:ext cx="2438280" cy="17524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6" name="Line 8"/>
          <p:cNvSpPr/>
          <p:nvPr/>
        </p:nvSpPr>
        <p:spPr>
          <a:xfrm>
            <a:off x="3048120" y="2133720"/>
            <a:ext cx="1828800" cy="76176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" name="Text Box 9"/>
          <p:cNvSpPr/>
          <p:nvPr/>
        </p:nvSpPr>
        <p:spPr>
          <a:xfrm>
            <a:off x="3886200" y="4572000"/>
            <a:ext cx="2590920" cy="4597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ntervertebral disc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Line 10"/>
          <p:cNvSpPr/>
          <p:nvPr/>
        </p:nvSpPr>
        <p:spPr>
          <a:xfrm flipV="1">
            <a:off x="6477120" y="4114440"/>
            <a:ext cx="533160" cy="6858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9" name="Line 11"/>
          <p:cNvSpPr/>
          <p:nvPr/>
        </p:nvSpPr>
        <p:spPr>
          <a:xfrm flipV="1">
            <a:off x="6477120" y="4647960"/>
            <a:ext cx="533160" cy="1522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Line 12"/>
          <p:cNvSpPr/>
          <p:nvPr/>
        </p:nvSpPr>
        <p:spPr>
          <a:xfrm>
            <a:off x="6477120" y="4800600"/>
            <a:ext cx="533160" cy="53352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1" name="Line 13"/>
          <p:cNvSpPr/>
          <p:nvPr/>
        </p:nvSpPr>
        <p:spPr>
          <a:xfrm>
            <a:off x="6477120" y="4800600"/>
            <a:ext cx="685800" cy="10666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429000" y="228600"/>
            <a:ext cx="51055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Vertebral Colum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504960" y="1066320"/>
            <a:ext cx="5638680" cy="579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Lateral Curvature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Following Dorsal Sid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ervical Region = Concave curv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oracic Region = Convex curv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Lumbar Region = Concave curv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acrum = Convex curv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bnormal Curv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coliosis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-abnormal lateral curve &gt; 10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°, “twisted disease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Kyphosis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exaggerated thoracic curve, “humped disease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Lordosis-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ccented lumbar curve, “bent-backward disease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74" name="Picture 5" descr="Vertebral Column-N142"/>
          <p:cNvPicPr/>
          <p:nvPr/>
        </p:nvPicPr>
        <p:blipFill>
          <a:blip r:embed="rId1"/>
          <a:stretch/>
        </p:blipFill>
        <p:spPr>
          <a:xfrm>
            <a:off x="228600" y="380880"/>
            <a:ext cx="1484280" cy="60912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375" name="Line 6"/>
          <p:cNvSpPr/>
          <p:nvPr/>
        </p:nvSpPr>
        <p:spPr>
          <a:xfrm flipH="1">
            <a:off x="1142640" y="1219320"/>
            <a:ext cx="1219320" cy="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6" name="Line 7"/>
          <p:cNvSpPr/>
          <p:nvPr/>
        </p:nvSpPr>
        <p:spPr>
          <a:xfrm flipH="1">
            <a:off x="1676160" y="2743200"/>
            <a:ext cx="990360" cy="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7" name="Line 8"/>
          <p:cNvSpPr/>
          <p:nvPr/>
        </p:nvSpPr>
        <p:spPr>
          <a:xfrm flipH="1">
            <a:off x="1523520" y="4724280"/>
            <a:ext cx="1295640" cy="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8" name="Line 10"/>
          <p:cNvSpPr/>
          <p:nvPr/>
        </p:nvSpPr>
        <p:spPr>
          <a:xfrm flipH="1">
            <a:off x="1600200" y="5638680"/>
            <a:ext cx="1371600" cy="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9" name="Text Box 11"/>
          <p:cNvSpPr/>
          <p:nvPr/>
        </p:nvSpPr>
        <p:spPr>
          <a:xfrm>
            <a:off x="2438280" y="914400"/>
            <a:ext cx="457200" cy="4597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0" name="Text Box 12"/>
          <p:cNvSpPr/>
          <p:nvPr/>
        </p:nvSpPr>
        <p:spPr>
          <a:xfrm>
            <a:off x="2743200" y="2514600"/>
            <a:ext cx="685800" cy="4597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ou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1" name="Text Box 13"/>
          <p:cNvSpPr/>
          <p:nvPr/>
        </p:nvSpPr>
        <p:spPr>
          <a:xfrm>
            <a:off x="2971800" y="4419720"/>
            <a:ext cx="457200" cy="4597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2" name="Text Box 14"/>
          <p:cNvSpPr/>
          <p:nvPr/>
        </p:nvSpPr>
        <p:spPr>
          <a:xfrm>
            <a:off x="3048120" y="5486400"/>
            <a:ext cx="609480" cy="4597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ou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6" descr="kyphoticSpine"/>
          <p:cNvPicPr/>
          <p:nvPr/>
        </p:nvPicPr>
        <p:blipFill>
          <a:blip r:embed="rId1"/>
          <a:stretch/>
        </p:blipFill>
        <p:spPr>
          <a:xfrm>
            <a:off x="0" y="0"/>
            <a:ext cx="4495680" cy="35971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384" name="Picture 4" descr="lordosis"/>
          <p:cNvPicPr/>
          <p:nvPr/>
        </p:nvPicPr>
        <p:blipFill>
          <a:blip r:embed="rId2"/>
          <a:stretch/>
        </p:blipFill>
        <p:spPr>
          <a:xfrm>
            <a:off x="4267080" y="3124080"/>
            <a:ext cx="4672080" cy="37339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igaments of Vertebral Colum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462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Anterior Longitudinal Ligaments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(neck – sacrum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Run vertically on anterior surface of vertebral bodies + intervertebral disc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Wide,stro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Prevents hyperextensio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osterior Longitudinal Ligaments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(neck – sacrum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Run vertically on posterior surface of intervertebral discs onl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Narrow, weak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Prevents hyperflexio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Ligamentum Flavum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(contains elastic connective tissu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ttaches lamina of vertebrae (one on right, one on left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Very strong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3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igaments of Vertebral Colum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0" y="4343400"/>
            <a:ext cx="190512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Ligamentum flavum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9" name="Line 5"/>
          <p:cNvSpPr/>
          <p:nvPr/>
        </p:nvSpPr>
        <p:spPr>
          <a:xfrm flipV="1">
            <a:off x="1905120" y="4343400"/>
            <a:ext cx="914400" cy="45720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0" name="Line 6"/>
          <p:cNvSpPr/>
          <p:nvPr/>
        </p:nvSpPr>
        <p:spPr>
          <a:xfrm>
            <a:off x="1905120" y="4952880"/>
            <a:ext cx="914400" cy="15264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1" name="Rectangle 7"/>
          <p:cNvSpPr/>
          <p:nvPr/>
        </p:nvSpPr>
        <p:spPr>
          <a:xfrm>
            <a:off x="7543800" y="3962520"/>
            <a:ext cx="1371600" cy="685800"/>
          </a:xfrm>
          <a:prstGeom prst="rect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2" name="Line 8"/>
          <p:cNvSpPr/>
          <p:nvPr/>
        </p:nvSpPr>
        <p:spPr>
          <a:xfrm flipH="1">
            <a:off x="6857640" y="4267080"/>
            <a:ext cx="68580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93" name="Picture 12" descr="showimage"/>
          <p:cNvPicPr/>
          <p:nvPr/>
        </p:nvPicPr>
        <p:blipFill>
          <a:blip r:embed="rId1"/>
          <a:stretch/>
        </p:blipFill>
        <p:spPr>
          <a:xfrm>
            <a:off x="0" y="2438280"/>
            <a:ext cx="4191120" cy="39625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4" descr="showimage"/>
          <p:cNvPicPr/>
          <p:nvPr/>
        </p:nvPicPr>
        <p:blipFill>
          <a:blip r:embed="rId2"/>
          <a:stretch/>
        </p:blipFill>
        <p:spPr>
          <a:xfrm>
            <a:off x="3714840" y="2666880"/>
            <a:ext cx="54291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785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uscles of Anterior Thorax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96" name="Picture 20" descr="showimage"/>
          <p:cNvPicPr/>
          <p:nvPr/>
        </p:nvPicPr>
        <p:blipFill>
          <a:blip r:embed="rId1"/>
          <a:stretch/>
        </p:blipFill>
        <p:spPr>
          <a:xfrm>
            <a:off x="0" y="762120"/>
            <a:ext cx="5629320" cy="425772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10"/>
          <p:cNvSpPr/>
          <p:nvPr/>
        </p:nvSpPr>
        <p:spPr>
          <a:xfrm>
            <a:off x="0" y="762120"/>
            <a:ext cx="25146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ectoralis majo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8" name="Text Box 12"/>
          <p:cNvSpPr/>
          <p:nvPr/>
        </p:nvSpPr>
        <p:spPr>
          <a:xfrm>
            <a:off x="4495680" y="2057400"/>
            <a:ext cx="28195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ectoralis mino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99" name="Picture 22" descr="showimage"/>
          <p:cNvPicPr/>
          <p:nvPr/>
        </p:nvPicPr>
        <p:blipFill>
          <a:blip r:embed="rId2"/>
          <a:stretch/>
        </p:blipFill>
        <p:spPr>
          <a:xfrm>
            <a:off x="5891040" y="3048120"/>
            <a:ext cx="3252960" cy="3809880"/>
          </a:xfrm>
          <a:prstGeom prst="rect">
            <a:avLst/>
          </a:prstGeom>
          <a:ln w="0">
            <a:noFill/>
          </a:ln>
        </p:spPr>
      </p:pic>
      <p:sp>
        <p:nvSpPr>
          <p:cNvPr id="400" name="Line 17"/>
          <p:cNvSpPr/>
          <p:nvPr/>
        </p:nvSpPr>
        <p:spPr>
          <a:xfrm>
            <a:off x="6553080" y="4724280"/>
            <a:ext cx="838440" cy="60984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Line 18"/>
          <p:cNvSpPr/>
          <p:nvPr/>
        </p:nvSpPr>
        <p:spPr>
          <a:xfrm>
            <a:off x="6553080" y="4724280"/>
            <a:ext cx="990720" cy="30492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5105520" y="4267080"/>
            <a:ext cx="152388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erratus anterio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3" name="Line 23"/>
          <p:cNvSpPr/>
          <p:nvPr/>
        </p:nvSpPr>
        <p:spPr>
          <a:xfrm>
            <a:off x="1523880" y="1219320"/>
            <a:ext cx="76320" cy="106668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4" name="Line 24"/>
          <p:cNvSpPr/>
          <p:nvPr/>
        </p:nvSpPr>
        <p:spPr>
          <a:xfrm flipH="1">
            <a:off x="3428640" y="2286000"/>
            <a:ext cx="106668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5" name="Line 18"/>
          <p:cNvSpPr/>
          <p:nvPr/>
        </p:nvSpPr>
        <p:spPr>
          <a:xfrm>
            <a:off x="6629400" y="4724280"/>
            <a:ext cx="914400" cy="7632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"/>
          <p:cNvGraphicFramePr/>
          <p:nvPr/>
        </p:nvGraphicFramePr>
        <p:xfrm>
          <a:off x="0" y="2590920"/>
          <a:ext cx="9144000" cy="3865320"/>
        </p:xfrm>
        <a:graphic>
          <a:graphicData uri="http://schemas.openxmlformats.org/drawingml/2006/table">
            <a:tbl>
              <a:tblPr/>
              <a:tblGrid>
                <a:gridCol w="1827360"/>
                <a:gridCol w="1601640"/>
                <a:gridCol w="1828800"/>
                <a:gridCol w="1905120"/>
                <a:gridCol w="1981080"/>
              </a:tblGrid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Muscle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Origin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nsertion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ction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nnervation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erratus anterior (ventralis)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ibs 1-9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capula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Protract, Rotate scapula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Long Thoracic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ternocleidomastoid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ternum, clavicle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Mastoid process, S. nuchal line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Flex, Lat flex, Rotate head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ccessor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7" name="Text Box 69"/>
          <p:cNvSpPr/>
          <p:nvPr/>
        </p:nvSpPr>
        <p:spPr>
          <a:xfrm>
            <a:off x="1523880" y="914400"/>
            <a:ext cx="632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uscles of Thorax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532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uscles of Thorax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0" y="2214720"/>
          <a:ext cx="9144000" cy="470844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752480"/>
                <a:gridCol w="1905120"/>
              </a:tblGrid>
              <a:tr h="96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Muscle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Origin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nsertion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ction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nnervation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Pectoralis major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ternum, Ribs 2-6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umeru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dduct, Flex, Med Rotate Arm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M &amp; L pectoral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Pectoralis minor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ibs 3-5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capula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epress, Rotate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M &amp; L pectoral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0" descr="showimage"/>
          <p:cNvPicPr/>
          <p:nvPr/>
        </p:nvPicPr>
        <p:blipFill>
          <a:blip r:embed="rId1"/>
          <a:stretch/>
        </p:blipFill>
        <p:spPr>
          <a:xfrm>
            <a:off x="1905120" y="914400"/>
            <a:ext cx="4167000" cy="59436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1499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Muscles of Posterior Thorax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2" name="Text Box 6"/>
          <p:cNvSpPr/>
          <p:nvPr/>
        </p:nvSpPr>
        <p:spPr>
          <a:xfrm>
            <a:off x="990720" y="2209680"/>
            <a:ext cx="16761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Trapeziu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3" name="Text Box 8"/>
          <p:cNvSpPr/>
          <p:nvPr/>
        </p:nvSpPr>
        <p:spPr>
          <a:xfrm>
            <a:off x="914400" y="4038480"/>
            <a:ext cx="16002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Latissimus dorsi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4" name="Text Box 16"/>
          <p:cNvSpPr/>
          <p:nvPr/>
        </p:nvSpPr>
        <p:spPr>
          <a:xfrm>
            <a:off x="914400" y="2971800"/>
            <a:ext cx="1371600" cy="459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Deltoid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5" name="Line 18"/>
          <p:cNvSpPr/>
          <p:nvPr/>
        </p:nvSpPr>
        <p:spPr>
          <a:xfrm>
            <a:off x="2286000" y="3124080"/>
            <a:ext cx="6094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Text Box 6"/>
          <p:cNvSpPr/>
          <p:nvPr/>
        </p:nvSpPr>
        <p:spPr>
          <a:xfrm>
            <a:off x="5105520" y="1981080"/>
            <a:ext cx="2666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Levator scapula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5486400" y="3200400"/>
            <a:ext cx="2971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Rhomboideus majo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5105520" y="2514600"/>
            <a:ext cx="2971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Rhomboideus mino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9" name="Line 25"/>
          <p:cNvSpPr/>
          <p:nvPr/>
        </p:nvSpPr>
        <p:spPr>
          <a:xfrm>
            <a:off x="4343400" y="2438280"/>
            <a:ext cx="7621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0" name=""/>
          <p:cNvGraphicFramePr/>
          <p:nvPr/>
        </p:nvGraphicFramePr>
        <p:xfrm>
          <a:off x="0" y="2023920"/>
          <a:ext cx="9144000" cy="4834080"/>
        </p:xfrm>
        <a:graphic>
          <a:graphicData uri="http://schemas.openxmlformats.org/drawingml/2006/table">
            <a:tbl>
              <a:tblPr/>
              <a:tblGrid>
                <a:gridCol w="1828800"/>
                <a:gridCol w="2133720"/>
                <a:gridCol w="1523880"/>
                <a:gridCol w="1690560"/>
                <a:gridCol w="1967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Muscle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Origin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nsertion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ction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nnervation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Trapeziu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Ligamentum nuchae,     C</a:t>
                      </a:r>
                      <a:r>
                        <a:rPr b="0" lang="en-US" sz="28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T</a:t>
                      </a:r>
                      <a:r>
                        <a:rPr b="0" lang="en-US" sz="28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capula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levate, Adduct, Rotate, Depres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ccessor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Levator Scapulae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C</a:t>
                      </a:r>
                      <a:r>
                        <a:rPr b="0" lang="en-US" sz="28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capula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levate  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. Scapular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homboid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T</a:t>
                      </a:r>
                      <a:r>
                        <a:rPr b="0" lang="en-US" sz="28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capula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dduct, Elevate, Rotate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. Scapular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21" name="Text Box 122"/>
          <p:cNvSpPr/>
          <p:nvPr/>
        </p:nvSpPr>
        <p:spPr>
          <a:xfrm>
            <a:off x="1447920" y="60948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uscles of Thorax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419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Bony Thorax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4876560" cy="48769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ternum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Manubrium, Body (Gladiolus), Xiphoid Proces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ib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7 True Rib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5 False Rib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avicl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capul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Vertebra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ervicle,Thoracic, Lumbar, Sacral (Sacrum), Coccygeal (Coccyx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6629400" y="1600200"/>
            <a:ext cx="990720" cy="1219320"/>
          </a:xfrm>
          <a:prstGeom prst="rect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8077320" y="1905120"/>
            <a:ext cx="609480" cy="228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Rectangle 9"/>
          <p:cNvSpPr/>
          <p:nvPr/>
        </p:nvSpPr>
        <p:spPr>
          <a:xfrm>
            <a:off x="8153280" y="1600200"/>
            <a:ext cx="381240" cy="1522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Rectangle 10"/>
          <p:cNvSpPr/>
          <p:nvPr/>
        </p:nvSpPr>
        <p:spPr>
          <a:xfrm>
            <a:off x="8153280" y="2209680"/>
            <a:ext cx="304920" cy="228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Rectangle 12"/>
          <p:cNvSpPr/>
          <p:nvPr/>
        </p:nvSpPr>
        <p:spPr>
          <a:xfrm>
            <a:off x="5562720" y="1676520"/>
            <a:ext cx="380880" cy="304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Rectangle 13"/>
          <p:cNvSpPr/>
          <p:nvPr/>
        </p:nvSpPr>
        <p:spPr>
          <a:xfrm>
            <a:off x="8153280" y="2590920"/>
            <a:ext cx="457200" cy="304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Text Box 14"/>
          <p:cNvSpPr/>
          <p:nvPr/>
        </p:nvSpPr>
        <p:spPr>
          <a:xfrm>
            <a:off x="7772400" y="6095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g 146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5" name="Picture 4" descr="f7-32b_thoracic_cage"/>
          <p:cNvPicPr/>
          <p:nvPr/>
        </p:nvPicPr>
        <p:blipFill>
          <a:blip r:embed="rId1"/>
          <a:stretch/>
        </p:blipFill>
        <p:spPr>
          <a:xfrm>
            <a:off x="5105520" y="1447920"/>
            <a:ext cx="3886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42640" y="837720"/>
            <a:ext cx="7302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uscles of Thorax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0" y="2290680"/>
          <a:ext cx="9144000" cy="4210200"/>
        </p:xfrm>
        <a:graphic>
          <a:graphicData uri="http://schemas.openxmlformats.org/drawingml/2006/table">
            <a:tbl>
              <a:tblPr/>
              <a:tblGrid>
                <a:gridCol w="1828800"/>
                <a:gridCol w="1523880"/>
                <a:gridCol w="1676520"/>
                <a:gridCol w="2209680"/>
                <a:gridCol w="190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Muscle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Origin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nsertion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ction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nnervation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eltoid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lavicle, Scapula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umeru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Flex, Abduct, Extend, L&amp;M rotate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xillar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Latissimus dorsi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liac crest, 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7-12</a:t>
                      </a: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 Lumbar fascia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umeru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xtend, Adduct, M Rotate Arm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Thoraco-dorsal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8153280" cy="647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Location: (female breast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Superior border: 2</a:t>
            </a:r>
            <a:r>
              <a:rPr b="0" lang="en-US" sz="2400" spc="-1" strike="noStrike" baseline="30000">
                <a:solidFill>
                  <a:srgbClr val="ff0066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rib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Inferior border: 6</a:t>
            </a:r>
            <a:r>
              <a:rPr b="0" lang="en-US" sz="2400" spc="-1" strike="noStrike" baseline="30000">
                <a:solidFill>
                  <a:srgbClr val="ff0066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rib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Medial border: Sternum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Lateral border: Midaxillary lin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ocation: (male nipple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ourth Intercostal Space, Midclavicular lin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Underlying musc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ctoralis major and mino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art of serratus anterior, external obliqu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Lateral Thoracic Artery, branches of Internal Thoracic A., Post. Intercostal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ntercostal, Internal Thoracic, Axillary Vei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ranches of Intercostal Nerv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title"/>
          </p:nvPr>
        </p:nvSpPr>
        <p:spPr>
          <a:xfrm>
            <a:off x="5638320" y="990360"/>
            <a:ext cx="2514600" cy="11430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Breas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4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15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ammary Gland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Lactiferous (modified sweat) Gland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reast made of 15-25 lobe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each a compound alveolar gland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Lobes made of lobules (= clusters of acini/alveoli)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cini/Alveoli lined w/milk-secreting simple epithelial cell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ff"/>
                </a:solidFill>
                <a:latin typeface="Times New Roman"/>
              </a:rPr>
              <a:t>Lactiferous Ducts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of lobes open at nipp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Areola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-ring of pigmented skin around nipp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ebaceous gland produce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sebum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during nurs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Lobes separated by adipose tissue and suspended by connective tissue =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Suspensory Ligaments of the Breas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ammary Glan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29" name="Picture 3" descr="Mammary Gland"/>
          <p:cNvPicPr/>
          <p:nvPr/>
        </p:nvPicPr>
        <p:blipFill>
          <a:blip r:embed="rId1"/>
          <a:stretch/>
        </p:blipFill>
        <p:spPr>
          <a:xfrm>
            <a:off x="0" y="1676520"/>
            <a:ext cx="5791320" cy="36478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430" name="Picture 2" descr="showimage"/>
          <p:cNvPicPr/>
          <p:nvPr/>
        </p:nvPicPr>
        <p:blipFill>
          <a:blip r:embed="rId2"/>
          <a:stretch/>
        </p:blipFill>
        <p:spPr>
          <a:xfrm>
            <a:off x="5943600" y="1676520"/>
            <a:ext cx="2995560" cy="2819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31" name="Picture 4" descr="mastitis2"/>
          <p:cNvPicPr/>
          <p:nvPr/>
        </p:nvPicPr>
        <p:blipFill>
          <a:blip r:embed="rId3"/>
          <a:stretch/>
        </p:blipFill>
        <p:spPr>
          <a:xfrm>
            <a:off x="5867280" y="4572000"/>
            <a:ext cx="3048120" cy="2133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Surface Anatomy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3" name="Text Box 4"/>
          <p:cNvSpPr/>
          <p:nvPr/>
        </p:nvSpPr>
        <p:spPr>
          <a:xfrm>
            <a:off x="1828800" y="2971800"/>
            <a:ext cx="6095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Use the next 3 slides and follow the book t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alpate (feel) the features list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nterior Surface of Thorax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723920" y="1905120"/>
            <a:ext cx="4419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alpate the followin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ternum (3 part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Jugular notch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ternal Angle (= 2</a:t>
            </a:r>
            <a:r>
              <a:rPr b="0" lang="en-US" sz="2400" spc="-1" strike="noStrike" baseline="30000">
                <a:solidFill>
                  <a:srgbClr val="003366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rib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avicl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ostal margi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nfrasternal angl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Xiphosternal join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idclavicular Lin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idaxillary Lin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36" name="Picture 6" descr="Thorax Surface Anat"/>
          <p:cNvPicPr/>
          <p:nvPr/>
        </p:nvPicPr>
        <p:blipFill>
          <a:blip r:embed="rId1"/>
          <a:stretch/>
        </p:blipFill>
        <p:spPr>
          <a:xfrm>
            <a:off x="128520" y="1752480"/>
            <a:ext cx="42451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4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4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4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osterior Surface of Thorax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752480" y="2209320"/>
            <a:ext cx="6096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alpate the follow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pinous Process of C7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capula (ribs 2-7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capular spin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cromion Proc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nferior Angle of Spin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nferior Border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ocating Internal Structur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5410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Heart – deep to xiphosternal ang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leural Cavit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nferior margin = adjacent to T12    in Posterior Midlin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o Rib 10 at Midaxillary lin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o Rib 8 at Midclavicular lin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o Xiphosternal joint mediall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Lungs posterior border is 2 ribs superior to pleural cavity (rib 8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41" name="Picture 6" descr="Thoracic Pleura"/>
          <p:cNvPicPr/>
          <p:nvPr/>
        </p:nvPicPr>
        <p:blipFill>
          <a:blip r:embed="rId1"/>
          <a:stretch/>
        </p:blipFill>
        <p:spPr>
          <a:xfrm>
            <a:off x="5092560" y="2514600"/>
            <a:ext cx="4051440" cy="28558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442" name="Text Box 7"/>
          <p:cNvSpPr/>
          <p:nvPr/>
        </p:nvSpPr>
        <p:spPr>
          <a:xfrm>
            <a:off x="594360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g 743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Sternum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mposed of fused sternebrae)</a:t>
            </a: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419360" y="1905120"/>
            <a:ext cx="4724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anubrium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Jugular (sternal) notch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rticulation with rib #1 &amp; 2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avicular Articular face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Sternal Angle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– 2</a:t>
            </a:r>
            <a:r>
              <a:rPr b="0" lang="en-US" sz="2400" spc="-1" strike="noStrike" baseline="30000">
                <a:solidFill>
                  <a:srgbClr val="003366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rib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ody (Gladiolus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rticulates w/ribs 2-7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Xiphosternal join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Xiphoid proces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artilage-calcifies thru tim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artial attachment of many muscl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8" name="Picture 6" descr="Ribcage"/>
          <p:cNvPicPr/>
          <p:nvPr/>
        </p:nvPicPr>
        <p:blipFill>
          <a:blip r:embed="rId1"/>
          <a:stretch/>
        </p:blipFill>
        <p:spPr>
          <a:xfrm>
            <a:off x="0" y="2362320"/>
            <a:ext cx="4495680" cy="39067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309" name="Oval 7"/>
          <p:cNvSpPr/>
          <p:nvPr/>
        </p:nvSpPr>
        <p:spPr>
          <a:xfrm>
            <a:off x="1752480" y="2514600"/>
            <a:ext cx="838440" cy="2057400"/>
          </a:xfrm>
          <a:prstGeom prst="ellipse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Rib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11480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Usually, 12 pai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7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True ribs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-direct attachment to sternum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5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False ribs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-indirect or no attachment to sternum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Times New Roman"/>
              </a:rPr>
              <a:t>Floating ribs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-make up 2 of 5 False ribs, no ventral attachmen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ypical Rib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ibs # 2-9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typical Rib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ibs #1, 10, 11, 12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Reinforce thoracic cag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2" name="Picture 6" descr="Ribcage"/>
          <p:cNvPicPr/>
          <p:nvPr/>
        </p:nvPicPr>
        <p:blipFill>
          <a:blip r:embed="rId1"/>
          <a:stretch/>
        </p:blipFill>
        <p:spPr>
          <a:xfrm>
            <a:off x="4491000" y="2057400"/>
            <a:ext cx="4653000" cy="388620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362320" y="0"/>
            <a:ext cx="4419360" cy="9144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ib Anatom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276720" cy="350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ypical Rib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ea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Neck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ubercl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ngl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haf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ubcostal Groov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0" y="4191120"/>
            <a:ext cx="4267080" cy="290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Atypical Rib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#1-short, flat (S-I), wide, Supports Subclavian vessel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#1, 10-12 articulate with only = # vertebr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#11, 12 don’t articulate with transverse processes, or anteriorly at al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7162920" y="57150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g 172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7" name="Picture 9" descr="showimage"/>
          <p:cNvPicPr/>
          <p:nvPr/>
        </p:nvPicPr>
        <p:blipFill>
          <a:blip r:embed="rId1"/>
          <a:stretch/>
        </p:blipFill>
        <p:spPr>
          <a:xfrm>
            <a:off x="4267080" y="1447920"/>
            <a:ext cx="441972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666880" y="152280"/>
            <a:ext cx="6477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ical Rib Articul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504960" y="1295280"/>
            <a:ext cx="563868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Dorsal (P) Attachment Thoracic Vertebra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Head of Rib 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2 costal facets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771560" indent="-22860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uperior costal facet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4" marL="1771560" indent="-22860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ferior costal facet of vertebra above i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4" marL="1771560" indent="-22860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vertebral disc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Tubercle of Rib 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Transverse Costal Face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e.g.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Rib #4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articulates with </a:t>
            </a:r>
            <a:r>
              <a:rPr b="0" lang="en-US" sz="2000" spc="-1" strike="noStrike">
                <a:solidFill>
                  <a:srgbClr val="9900ff"/>
                </a:solidFill>
                <a:latin typeface="Times New Roman"/>
              </a:rPr>
              <a:t>Superior Costal Facet and Transverse Costal Facet of T4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&amp;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Inferior Costal Facet of T3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3" marL="142884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Ventral (A) Attachment to Sternum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Via costal cartilag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0" name="Picture 9" descr="Rib Articulation"/>
          <p:cNvPicPr/>
          <p:nvPr/>
        </p:nvPicPr>
        <p:blipFill>
          <a:blip r:embed="rId1"/>
          <a:stretch/>
        </p:blipFill>
        <p:spPr>
          <a:xfrm>
            <a:off x="0" y="1066680"/>
            <a:ext cx="2568600" cy="23623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321" name="Picture 4" descr="showimage"/>
          <p:cNvPicPr/>
          <p:nvPr/>
        </p:nvPicPr>
        <p:blipFill>
          <a:blip r:embed="rId2"/>
          <a:stretch/>
        </p:blipFill>
        <p:spPr>
          <a:xfrm>
            <a:off x="0" y="3581280"/>
            <a:ext cx="381312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228240" y="2438280"/>
            <a:ext cx="380988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ttaches upper extremity to axial skelet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olds upper extremity away from skeleton for mobili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3" name="Picture 7" descr="showimage"/>
          <p:cNvPicPr/>
          <p:nvPr/>
        </p:nvPicPr>
        <p:blipFill>
          <a:blip r:embed="rId1"/>
          <a:stretch/>
        </p:blipFill>
        <p:spPr>
          <a:xfrm>
            <a:off x="3886200" y="1257480"/>
            <a:ext cx="4781520" cy="560052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151920" y="304560"/>
            <a:ext cx="541044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ectoral Gird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629400" y="304560"/>
            <a:ext cx="2362320" cy="1143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capul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6" name="Picture 6" descr="showimage"/>
          <p:cNvPicPr/>
          <p:nvPr/>
        </p:nvPicPr>
        <p:blipFill>
          <a:blip r:embed="rId1"/>
          <a:stretch/>
        </p:blipFill>
        <p:spPr>
          <a:xfrm>
            <a:off x="0" y="38160"/>
            <a:ext cx="61722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7T23:10:29Z</dcterms:created>
  <dc:creator>Eylana Goff</dc:creator>
  <dc:description/>
  <dc:language>en-US</dc:language>
  <cp:lastModifiedBy>Sherry Zinn</cp:lastModifiedBy>
  <dcterms:modified xsi:type="dcterms:W3CDTF">2008-09-22T23:00:17Z</dcterms:modified>
  <cp:revision>41</cp:revision>
  <dc:subject/>
  <dc:title>The Thorax</dc:title>
</cp:coreProperties>
</file>